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74D8-4399-44A7-BFC8-D4DC27A7D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A14D-90F6-4AC8-8FED-BC2D97F8B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DFAF-868C-4ABC-82EA-63C84B7CD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6822-1F7F-4B94-9A79-7D55C1BEC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0E13-F631-44E4-BCB2-4B3D0381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2F13-F166-4788-8F57-DACFD9C1C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B390-F72F-4F7F-92A6-EB8A13AEA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C792-64D0-46FE-9C72-B7A7BB8A7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37EB-7333-489D-A3EC-49268A6F8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6F31-32A7-4D65-8AA0-21CCAEC1A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87FE-1BD4-4565-9569-ACD3EC7A3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A76E-EEA8-4465-B877-CA33BD144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32E8-66FF-44E2-95ED-D2F7556D7DCB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l.uk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31313"/>
                </a:solidFill>
                <a:latin typeface="Arial"/>
              </a:rPr>
              <a:t>Aly Conteh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gitisation Programme Manag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31313"/>
                </a:solidFill>
                <a:latin typeface="Arial"/>
              </a:rPr>
              <a:t>20</a:t>
            </a:r>
            <a:r>
              <a:rPr b="1" lang="en-GB" sz="1800" spc="-1" strike="noStrike" baseline="30000">
                <a:solidFill>
                  <a:srgbClr val="131313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131313"/>
                </a:solidFill>
                <a:latin typeface="Arial"/>
              </a:rPr>
              <a:t> May 2008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624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tish Librar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ver 150 million collection items, including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Books, serials, newspapers, manuscripts, maps, photographs, prints and drawings, patent specifications, music scores, sound discs, stamps…….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torage: 650 linear kilometers, growth rate = 11 kilometers a yea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ebsite: 5 million unique users, 60 million pages served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eading Rooms: 400,000 visitor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reasures include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agna Carta, Lindisfarne Gospels, Leonardo da Vinci’s Notebook, The Times first edition (18 March 1788),  Beatles manuscripts, recording of Nelson Mandela’s trial speech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5586-43A0-43E1-B4C9-60CC3CD63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have we do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7025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reated over 50 million digital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ave several 100s TB in our digital sto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 Access through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ebsite in digital collections, Images On-line, TTP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n Reading Room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xternal Websites – Publishers, Academic Institu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acsimiles/Public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gitised 1% of our collection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BAD9-E75E-4E21-875A-D3EF1CCB65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we currently doing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Partnership with Microsoft to digitise 25 million pages of 19</a:t>
            </a:r>
            <a:r>
              <a:rPr b="0" lang="en-GB" sz="1800" spc="-1" strike="noStrike" baseline="30000">
                <a:solidFill>
                  <a:srgbClr val="131313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 Century book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1 million pages of pre-1900 British national and regional newspapers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4,000 hours of sound recording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Various manuscript digitisation projec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2346120" cy="251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96848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AB0A-78EB-4D01-A042-0DCCEC353F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some of the challenges for 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5734080"/>
            <a:ext cx="3529080" cy="431640"/>
          </a:xfrm>
          <a:prstGeom prst="rect">
            <a:avLst/>
          </a:prstGeom>
          <a:solidFill>
            <a:srgbClr val="a6d5f3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Original Material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5157720"/>
            <a:ext cx="172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Non Digital Surrogates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e.g. microfilm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4581360"/>
            <a:ext cx="352908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Imag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Archival versions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429000"/>
            <a:ext cx="35290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Structural, Descriptive, Technical, Preservation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2852640"/>
            <a:ext cx="17290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Supporting Text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e.g. commentary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2852640"/>
            <a:ext cx="1728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Full Text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OCR &amp; manual keying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2276640"/>
            <a:ext cx="17290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Navigation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276640"/>
            <a:ext cx="1728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Search 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keyword &amp; full text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1700280"/>
            <a:ext cx="35290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web interface, user functionality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4005360"/>
            <a:ext cx="35290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Imag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131313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Service version</a:t>
            </a:r>
            <a:r>
              <a:rPr b="0" lang="en-GB" sz="900" spc="-1" strike="noStrike">
                <a:solidFill>
                  <a:srgbClr val="131313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6280" y="3429000"/>
            <a:ext cx="606600" cy="158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Digital Preservation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500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Sustainabil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136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772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6280" y="1700280"/>
            <a:ext cx="606600" cy="158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nterface Technologi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7408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CC55-7E60-4E5F-AEA2-A1AA33C456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some of the challenges for 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34545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P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ng Term Preserv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ustainability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election Criteri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Workflow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048200" cy="36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25ED-498C-4374-A33D-275B8B25C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631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ow do we ensure that the resources that we create are what our users require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ustomer Quality Expect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What are some of the things we do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ser Pane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sability Lab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wareness of tre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1898-2013-43AE-A434-3EFA7232E3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631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ow can we improve the user experience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Poor Quality OC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mount of dat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ack of tools to manipulate historical tex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uropean Commission funded projec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15 partn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dvance state of the art in OC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evelop language tools and lexica in order to provide access to historical texts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Build a network of competence centres in order to provide a single access point for all players involved in mass-digitisation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496908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38A4-E127-4C76-B6B9-96F1202D94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ank You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6172c"/>
                </a:solidFill>
                <a:uFillTx/>
                <a:latin typeface="Arial"/>
                <a:hlinkClick r:id="rId1"/>
              </a:rPr>
              <a:t>www.bl.uk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1313"/>
                </a:solidFill>
                <a:latin typeface="Arial"/>
              </a:rPr>
              <a:t>aly.conteh@bl.uk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81024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40A3-0AAC-4099-AB2B-D546C159D2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2:53:50Z</dcterms:created>
  <dc:creator>Aly Conteh</dc:creator>
  <dc:description/>
  <cp:keywords/>
  <dc:language>en-US</dc:language>
  <cp:lastModifiedBy>ntumelty</cp:lastModifiedBy>
  <dcterms:modified xsi:type="dcterms:W3CDTF">2008-05-26T11:34:03Z</dcterms:modified>
  <cp:revision>12</cp:revision>
  <dc:subject/>
  <dc:title>TITLE</dc:title>
</cp:coreProperties>
</file>