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C07A9-AC25-4C8A-94AE-09CFA58BF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A679-9481-4799-B261-FADB06608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65F0E-D998-4B16-8B5F-38536D06C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71EA-AD0D-405C-AD41-024FF3315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546C7-69D2-4395-93CE-FE6C82FB6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92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760" y="159840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92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760" y="3908520"/>
            <a:ext cx="2551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375A-D997-4C81-A3D5-DA5E36DC1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E688-6208-420C-B2BA-D0FC1C1DB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507D-B9E6-4106-BED8-47C071440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82680"/>
            <a:ext cx="7848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FBF0-9D0A-469B-9972-D9F3A1251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A12B-D74D-4927-8CA8-9E5B6C335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390852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2145-FFB0-4BAD-B3C6-5838BA9AF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1598400"/>
            <a:ext cx="38671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08520"/>
            <a:ext cx="7924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CD3E-021D-4DF8-A570-C8367917E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35120" y="0"/>
            <a:ext cx="8408880" cy="134136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290520" indent="-289080">
              <a:spcBef>
                <a:spcPts val="22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569880" indent="-277920">
              <a:spcBef>
                <a:spcPts val="220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851040" indent="-279360">
              <a:spcBef>
                <a:spcPts val="220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244520" indent="-203040">
              <a:spcBef>
                <a:spcPts val="220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5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6" marL="1244520" indent="-203040">
              <a:spcBef>
                <a:spcPts val="220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32720" y="6381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3131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F656-DB67-4916-B738-40E49061CF38}" type="slidenum">
              <a:rPr b="0" lang="en-US" sz="1400" spc="-1" strike="noStrike">
                <a:solidFill>
                  <a:srgbClr val="1313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cd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1268280"/>
            <a:ext cx="75247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1701720"/>
            <a:ext cx="66344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17480" y="1268280"/>
            <a:ext cx="846360" cy="1654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2" marL="291960" algn="ctr">
              <a:spcBef>
                <a:spcPts val="550"/>
              </a:spcBef>
              <a:buClr>
                <a:srgbClr val="c6172c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3" marL="571680" algn="ctr">
              <a:spcBef>
                <a:spcPts val="550"/>
              </a:spcBef>
              <a:buClr>
                <a:srgbClr val="c6172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4" marL="1041480" algn="ctr">
              <a:spcBef>
                <a:spcPts val="550"/>
              </a:spcBef>
              <a:buClr>
                <a:srgbClr val="c6172c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Fif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5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ix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  <a:p>
            <a:pPr lvl="6" marL="1041480">
              <a:spcBef>
                <a:spcPts val="550"/>
              </a:spcBef>
              <a:buClr>
                <a:srgbClr val="131313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31313"/>
                </a:solidFill>
                <a:latin typeface="Syntax"/>
              </a:rPr>
              <a:t>Seventh Outline Level</a:t>
            </a:r>
            <a:endParaRPr b="0" lang="en-US" sz="2200" spc="-1" strike="noStrike">
              <a:solidFill>
                <a:srgbClr val="131313"/>
              </a:solidFill>
              <a:latin typeface="Syntax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l.uk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58920" y="328464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31313"/>
                </a:solidFill>
                <a:latin typeface="Arial"/>
              </a:rPr>
              <a:t>Aly Conteh</a:t>
            </a:r>
            <a:br>
              <a:rPr sz="1800"/>
            </a:b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Digitisation Programme Manager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31313"/>
                </a:solidFill>
                <a:latin typeface="Arial"/>
              </a:rPr>
              <a:t>20</a:t>
            </a:r>
            <a:r>
              <a:rPr b="1" lang="en-GB" sz="1800" spc="-1" strike="noStrike" baseline="30000">
                <a:solidFill>
                  <a:srgbClr val="131313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131313"/>
                </a:solidFill>
                <a:latin typeface="Arial"/>
              </a:rPr>
              <a:t> May 2008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662472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e British Library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Over 150 million collection items, including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Books, serials, newspapers, manuscripts, maps, photographs, prints and drawings, patent specifications, music scores, sound discs, stamps…….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torage: 650 linear kilometers, growth rate = 11 kilometers a yea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ebsite: 5 million unique users, 60 million pages served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Reading Rooms: 400,000 visitor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Treasures include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Magna Carta, Lindisfarne Gospels, Leonardo da Vinci’s Notebook, The Times first edition (18 March 1788),  Beatles manuscripts, recording of Nelson Mandela’s trial speech.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2B52-2434-4460-A597-0AA1DBA7AA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have we done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70256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Created over 50 million digital object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Have several 100s TB in our digital store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Provide Access through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Website in digital collections, Images On-line, TTP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In Reading Room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External Websites – Publishers, Academic Institu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Facsimiles/Public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Digitised 1% of our collections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F518-2AB8-437E-A1DE-DEEB5876C9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we currently doing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98400"/>
            <a:ext cx="792468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Partnership with Microsoft to digitise 25 million pages of 19</a:t>
            </a:r>
            <a:r>
              <a:rPr b="0" lang="en-GB" sz="1800" spc="-1" strike="noStrike" baseline="30000">
                <a:solidFill>
                  <a:srgbClr val="131313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 Century book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1 million pages of pre-1900 British national and regional newspapers 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31313"/>
                </a:solidFill>
                <a:latin typeface="Arial"/>
              </a:rPr>
              <a:t>4,000 hours of sound recording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180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1313"/>
                </a:solidFill>
                <a:latin typeface="Arial"/>
              </a:rPr>
              <a:t>Various manuscript digitisation projects</a:t>
            </a: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51640" y="4076640"/>
            <a:ext cx="2346120" cy="2519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58920" y="4149720"/>
            <a:ext cx="196848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47C7-78D5-41D0-BD46-8C6C5FC5FA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some of the challenges for 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5734080"/>
            <a:ext cx="3529080" cy="431640"/>
          </a:xfrm>
          <a:prstGeom prst="rect">
            <a:avLst/>
          </a:prstGeom>
          <a:solidFill>
            <a:srgbClr val="a6d5f3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Original Material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5157720"/>
            <a:ext cx="172908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Non Digital Surrogates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e.g. microfilm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4581360"/>
            <a:ext cx="3529080" cy="432000"/>
          </a:xfrm>
          <a:prstGeom prst="rect">
            <a:avLst/>
          </a:prstGeom>
          <a:solidFill>
            <a:srgbClr val="ff99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Imag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Archival versions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3429000"/>
            <a:ext cx="3529080" cy="431640"/>
          </a:xfrm>
          <a:prstGeom prst="rect">
            <a:avLst/>
          </a:prstGeom>
          <a:solidFill>
            <a:srgbClr val="00ffff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Metadata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Structural, Descriptive, Technical, Preservation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2852640"/>
            <a:ext cx="172908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Supporting Text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e.g. commentary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2852640"/>
            <a:ext cx="1728720" cy="43200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Full Text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OCR &amp; manual keying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2276640"/>
            <a:ext cx="17290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Navigation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276640"/>
            <a:ext cx="17287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131313"/>
                </a:solidFill>
                <a:latin typeface="Arial"/>
              </a:rPr>
              <a:t>Search 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keyword &amp; full text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1700280"/>
            <a:ext cx="352908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(web interface, user functionality)</a:t>
            </a:r>
            <a:endParaRPr b="0" lang="en-US" sz="12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4005360"/>
            <a:ext cx="35290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31313"/>
                </a:solidFill>
                <a:latin typeface="Arial"/>
              </a:rPr>
              <a:t>Imag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131313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131313"/>
                </a:solidFill>
                <a:latin typeface="Arial"/>
              </a:rPr>
              <a:t>Service version</a:t>
            </a:r>
            <a:r>
              <a:rPr b="0" lang="en-GB" sz="900" spc="-1" strike="noStrike">
                <a:solidFill>
                  <a:srgbClr val="131313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6280" y="3429000"/>
            <a:ext cx="606600" cy="158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Digital Preservation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500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Sustainabil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136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9772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Standard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6280" y="1700280"/>
            <a:ext cx="606600" cy="158436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nterface Technologies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74080" y="1700280"/>
            <a:ext cx="393480" cy="3313080"/>
          </a:xfrm>
          <a:prstGeom prst="rect">
            <a:avLst/>
          </a:prstGeom>
          <a:solidFill>
            <a:srgbClr val="ccffcc"/>
          </a:solidFill>
          <a:ln w="19080">
            <a:solidFill>
              <a:srgbClr val="131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1313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13131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7B6D-A52A-4C92-BDA2-641E5F681B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What are some of the challenges for u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34545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IP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Long Term Preservation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Sustainability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election Criteri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Standar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Partnership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Workflow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11640" y="1628640"/>
            <a:ext cx="4048200" cy="363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B195-180F-46C8-9288-49258B7F3E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6312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ow do we ensure that the resources that we create are what our users require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Customer Quality Expectation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What are some of the things we do: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ser Panel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Usability Lab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wareness of trend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9589-AF3B-4594-90DF-B47ADC8B40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Access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98760"/>
            <a:ext cx="76312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How can we improve the user experience?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Poor Quality OC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mount of data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Lack of tools to manipulate historical tex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001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European Commission funded project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15 partners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Advance state of the art in OCR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499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Develop language tools and lexica in order to provide access to historical texts</a:t>
            </a:r>
            <a:r>
              <a:rPr b="0" lang="en-US" sz="20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-289080">
              <a:lnSpc>
                <a:spcPct val="90000"/>
              </a:lnSpc>
              <a:spcBef>
                <a:spcPts val="550"/>
              </a:spcBef>
              <a:buClr>
                <a:srgbClr val="c6172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1313"/>
                </a:solidFill>
                <a:latin typeface="Arial"/>
              </a:rPr>
              <a:t>Build a network of competence centres in order to provide a single access point for all players involved in mass-digitisation</a:t>
            </a:r>
            <a:r>
              <a:rPr b="0" lang="en-US" sz="2200" spc="-1" strike="noStrike">
                <a:solidFill>
                  <a:srgbClr val="13131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496908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1050-3AED-4659-A113-BD42764B91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26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720" bIns="367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3"/>
                </a:solidFill>
                <a:latin typeface="Arial"/>
              </a:rPr>
              <a:t>Thank You</a:t>
            </a:r>
            <a:endParaRPr b="1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743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6172c"/>
                </a:solidFill>
                <a:uFillTx/>
                <a:latin typeface="Arial"/>
                <a:hlinkClick r:id="rId1"/>
              </a:rPr>
              <a:t>www.bl.uk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31313"/>
                </a:solidFill>
                <a:latin typeface="Arial"/>
              </a:rPr>
              <a:t>aly.conteh@bl.uk</a:t>
            </a:r>
            <a:endParaRPr b="0" lang="en-US" sz="24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  <a:p>
            <a:pPr marL="26676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131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81024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5562-9848-4B34-A41F-D86249FABB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2:53:50Z</dcterms:created>
  <dc:creator>Aly Conteh</dc:creator>
  <dc:description/>
  <cp:keywords/>
  <dc:language>en-US</dc:language>
  <cp:lastModifiedBy>ntumelty</cp:lastModifiedBy>
  <dcterms:modified xsi:type="dcterms:W3CDTF">2008-05-26T11:34:03Z</dcterms:modified>
  <cp:revision>12</cp:revision>
  <dc:subject/>
  <dc:title>TITLE</dc:title>
</cp:coreProperties>
</file>