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7E1-10E4-4681-9BC8-9A8A5088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B235-C7AE-4150-B439-80E338B8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82B4-51A2-452B-B3B2-69EC3AF6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5552-F412-4BE8-ABCF-62807F8D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07E8-C005-4571-80DB-FB3F2CA9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6E3C-4784-4DA8-AC0C-7BAC9158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9D55-FB71-4664-A266-95453BA4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483F-AE79-40FD-BC11-38196D12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89F5-5780-4A73-B4B9-17957AF1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6E2D-BB1D-4CAA-815F-A0DADA8D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F0B8-DBC0-4D63-A51C-B5E249DA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702D-E70A-4B02-B77A-20E21331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1B14-8D09-47D0-BC4C-1C3B0028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F258-55ED-46F2-AAAD-21EAD0B6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BB0A-1C67-4B8F-AA48-F174E895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3D79-D0F7-4CC1-9855-5D9870D5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4773-117E-4209-B42C-9EDD38F7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EFA1-712C-4485-8EB5-7F1707F2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DA67-2DEF-40CB-A4B1-3775A8B6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3C81-913C-4544-8A02-3F8CD36B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DB9F-82D1-4F7C-9BC9-7BFB5756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090-3DAA-409C-A0D2-B610F2E6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0931-DF7E-4BF8-8D9C-C6C77F1E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5DE9-FE3D-462E-8316-D8D9E231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EBF1-60B6-491D-B541-4932144ABEF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4571-419C-476E-8C34-B4448EE1E9D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26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Joint UK-Ireland Digitisation Workshop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48320" y="4723920"/>
            <a:ext cx="4495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h Por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B1A4-3B8F-43FA-8F54-5CB00E4FD0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hat results!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h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s unloc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vity encour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ts of agendas 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1445-3CA1-40AD-835E-49D7A63040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hat the Minister said…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 would like to see further development of digitisation and electronic delivery of library services in the coming years. Digitisation of services should be developed in a way that enables information to be shared between organisations such as the Public Records Office Northern Ireland, Museums and Galleries”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win Poots  January 2008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BEA4-01B7-45E5-B4C2-10AF22D0567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edwin_poots_meets_roger_dixon_at_the_francis_bigger_exhibition_2" descr="DCAL Minister Edwin Poots meets Roger Dixon at the launch of the Francis J Bigger exhibition at Belfast Central Library"/>
          <p:cNvPicPr/>
          <p:nvPr/>
        </p:nvPicPr>
        <p:blipFill>
          <a:blip r:embed="rId1"/>
          <a:stretch/>
        </p:blipFill>
        <p:spPr>
          <a:xfrm>
            <a:off x="457200" y="336600"/>
            <a:ext cx="8153280" cy="652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B6D4-907C-402C-B96E-D26EA9E89D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Establishing Digitisation programm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2743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towards a NI Libraries Strate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CE0-F535-4B50-893C-F73D36CBCE3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here we are…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vergence – NI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ding 2009-1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S network in pla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2A4D-3C01-4E6A-A550-FF800252233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hat people expec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partment - D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livering Tomorrows Librar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ub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sy access to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re; learning;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8606-EA3F-406E-A917-5F07A819892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hat’s been done so far…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2819520"/>
            <a:ext cx="60958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al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dividu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-operativ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SC N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629F-82FF-4C59-9EB5-53969A085D7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ome exampl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220968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 of Union Virtual Libr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ewsplan 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magh Bomb Community Arch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cus Ward - A Virtual Exhib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IP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ntre for Migration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29FE-ED64-471D-873F-4907D38FE5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Hidden Treasures - Belfas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8" name="getresource" descr="Embassy to China exhibtion launch in Belfast Central Library"/>
          <p:cNvPicPr/>
          <p:nvPr/>
        </p:nvPicPr>
        <p:blipFill>
          <a:blip r:embed="rId1"/>
          <a:stretch/>
        </p:blipFill>
        <p:spPr>
          <a:xfrm>
            <a:off x="609480" y="1066680"/>
            <a:ext cx="769644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8B7A-A2C3-42BD-A6DB-D705C73DB3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rom Projects to Strateg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udience – identify targe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oldings – identify materials/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uidelines/procedures – best prac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echnology - standards;interop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artnerships – identify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unding streams - sustain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9299-8E5C-446F-A29F-22226375126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Arial Narrow"/>
              </a:rPr>
              <a:t>What it means for ni-librari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ing forward 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loring possibili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ening up discus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‘family’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Bs; NI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C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ves; museums; libr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7041-3A8B-4F91-98D0-EE37AD934AA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hael Porter</cp:lastModifiedBy>
  <dcterms:modified xsi:type="dcterms:W3CDTF">2008-05-19T20:50:47Z</dcterms:modified>
  <cp:revision>31</cp:revision>
  <dc:subject/>
  <dc:title>PowerPoint Presentation</dc:title>
</cp:coreProperties>
</file>