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17D-4F4C-4EBC-AC61-0DEBFD8E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38E-BF1E-41A6-B398-D5A8F3D8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133-03D6-4016-A6B4-AFB780F8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AFA-75B8-459B-90C4-9BCAA5C0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8071-B5EF-4221-B5CE-C1191070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80EB-DC92-4887-B149-D6DFD3E3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28F0-36CC-46C0-8168-FF69BEEA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4970-A406-4C4A-8A5B-8554E7A0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C3A7-7D0E-4B4E-91D5-6702F152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71D8-EDCD-449D-9ACC-7A1F80AC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284D-D95D-4C3B-AC92-AA5BBBA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C27-324C-4B39-8A30-6CC82DCF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59ED-4E60-4880-89FF-586075A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0AD9-F37F-4BDB-A62C-6F753C5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0B84-5221-4220-942F-8B564E6C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83CC-7B52-4D92-9C6C-2E72BC3E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C160-123D-4304-A79D-7898BA18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BF3-1070-4EEA-91B6-49A9458C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ECC-8689-4C62-A2A1-CA39E4E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C8F-7B50-4547-8ECC-27223F14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FC0-F75A-400A-9956-4AA568BD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395-D364-4088-91A8-E676C2C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CA5-D58C-4165-88BC-EFAD1D7F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A64-7E0C-4A4D-936B-97B3EF97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E382-957F-4D18-93D6-B1FD467AD76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2529-C8AC-4902-A29B-23ED209E402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26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Joint UK-Ireland Digitisation Workshop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48320" y="4723920"/>
            <a:ext cx="4495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 Po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19A7-83E3-44AC-80C7-0277C236D5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results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s unl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vity en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agendas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6C1-F8C1-436C-8BDE-8C30DF8B9A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the Minister said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would like to see further development of digitisation and electronic delivery of library services in the coming years. Digitisation of services should be developed in a way that enables information to be shared between organisations such as the Public Records Office Northern Ireland, Museums and Galleries”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win Poots  January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BE5-88F9-4313-AC24-E08BB9BAF8B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dwin_poots_meets_roger_dixon_at_the_francis_bigger_exhibition_2" descr="DCAL Minister Edwin Poots meets Roger Dixon at the launch of the Francis J Bigger exhibition at Belfast Central Library"/>
          <p:cNvPicPr/>
          <p:nvPr/>
        </p:nvPicPr>
        <p:blipFill>
          <a:blip r:embed="rId1"/>
          <a:stretch/>
        </p:blipFill>
        <p:spPr>
          <a:xfrm>
            <a:off x="457200" y="336600"/>
            <a:ext cx="8153280" cy="652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30D-D13F-477A-ACE4-641546AC44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Establishing Digitisation programm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2743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towards a NI Libraries Strate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E44-3738-411D-8E8A-C03E594B3A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ere we are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vergence – NI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ding 2009-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S network in pl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2A9-DA17-4751-82CA-9636092E80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people expec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partment - D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livering Tomorrows Libra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sy access t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; learning;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764-AD22-46EA-A04C-1A7892284B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’s been done so far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2819520"/>
            <a:ext cx="60958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-operativ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C 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A52-BF50-4E16-B0AE-FC492897EE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me exampl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220968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 of Union Virtual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wsplan 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magh Bomb Community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us Ward - A Virtual Exhib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ntre for Migration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B38-E082-4CB1-84F1-67E184BFB8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idden Treasures - Belfa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8" name="getresource" descr="Embassy to China exhibtion launch in Belfast Central Library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0F1-0AF4-4486-AB85-66FAEE568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rom Projects to Strateg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dience – identify targe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ldings – identify materials/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uidelines/procedures – best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chnology - standards;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artnerships – identify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nding streams - sustain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3A8-51BE-43C0-9091-1DA73C98FB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What it means for ni-librari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forward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ring possib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ening up discu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‘family’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Bs; NI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ves; museums; libr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6CB-1119-4984-ADFD-73583ED471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Porter</cp:lastModifiedBy>
  <dcterms:modified xsi:type="dcterms:W3CDTF">2008-05-19T20:50:47Z</dcterms:modified>
  <cp:revision>31</cp:revision>
  <dc:subject/>
  <dc:title>PowerPoint Presentation</dc:title>
</cp:coreProperties>
</file>