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4360" y="404640"/>
            <a:ext cx="7772400" cy="35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360" y="404640"/>
            <a:ext cx="7772400" cy="354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6519960" y="4876920"/>
            <a:ext cx="2471760" cy="185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295280" indent="-380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3" marL="17146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4" marL="2133720" indent="-3049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5" marL="2133720" indent="-304920">
              <a:spcBef>
                <a:spcPts val="7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6" marL="2133720" indent="-304920">
              <a:spcBef>
                <a:spcPts val="7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440" y="5943240"/>
            <a:ext cx="244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F2B2-334D-45DD-AA5B-F5314FC42643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Community, Enterprise, Recreation, Cultural &amp; Heritage S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5943240"/>
            <a:ext cx="2819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HR Training – Induction Phas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27 November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04920" y="6324480"/>
            <a:ext cx="315720" cy="3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03440" y="1600200"/>
            <a:ext cx="7737120" cy="76320"/>
          </a:xfrm>
          <a:prstGeom prst="rect">
            <a:avLst/>
          </a:prstGeom>
          <a:gradFill rotWithShape="0">
            <a:gsLst>
              <a:gs pos="0">
                <a:srgbClr val="3d2e4c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gitisation-Branching Out Meath County Libr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4360" y="4190760"/>
            <a:ext cx="7775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ecff"/>
                </a:solidFill>
                <a:latin typeface="Tahoma"/>
              </a:rPr>
              <a:t>Ciarán Manga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ecff"/>
                </a:solidFill>
                <a:latin typeface="Tahoma"/>
              </a:rPr>
              <a:t>County Libraria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809880" y="2514600"/>
            <a:ext cx="13017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Tahoma"/>
              </a:rPr>
              <a:t>THEM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I. LOCAL STUDIES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Locality and Schools 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Transportation: railways and canal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Farming in Meath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II. 19TH CENTURY MEATH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Meath poor law unions and workhouses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The land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Health and medicine 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III. PAST AND PRESENT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Business and trade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ccecff"/>
                </a:solidFill>
                <a:uFillTx/>
                <a:latin typeface="Tahoma"/>
              </a:rPr>
              <a:t>Sport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ecff"/>
                </a:solidFill>
                <a:latin typeface="Tahoma"/>
              </a:rPr>
              <a:t>Glossary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ecff"/>
                </a:solidFill>
                <a:latin typeface="Tahoma"/>
              </a:rPr>
              <a:t>Timeline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9B354-6E8D-47AE-81DB-943BA7E76B2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771640" y="0"/>
            <a:ext cx="3219480" cy="724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9C935-B46D-4708-AD82-D1ED94495E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ccffff"/>
                </a:solidFill>
                <a:latin typeface="Tahoma"/>
              </a:rPr>
              <a:t>Meath County Council Library Servic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  <a:ea typeface="Times New Roman"/>
              </a:rPr>
              <a:t>Population 162,620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 algn="just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  <a:ea typeface="Times New Roman"/>
              </a:rPr>
              <a:t>13 Branche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 algn="just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  <a:ea typeface="Times New Roman"/>
              </a:rPr>
              <a:t>22,500 member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 algn="just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  <a:ea typeface="Times New Roman"/>
              </a:rPr>
              <a:t>420,000 Issue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 algn="just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  <a:ea typeface="Times New Roman"/>
              </a:rPr>
              <a:t>10 Professional Posts (48 Staff in total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 algn="just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  <a:ea typeface="Times New Roman"/>
              </a:rPr>
              <a:t>Branching Out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 algn="just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  <a:ea typeface="Times New Roman"/>
              </a:rPr>
              <a:t>Opening Hours 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 algn="just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  <a:ea typeface="Times New Roman"/>
              </a:rPr>
              <a:t>Branch Development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7C7BB-0F6E-46CE-B1B0-D884A7123E0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ccffff"/>
                </a:solidFill>
                <a:latin typeface="Tahoma"/>
              </a:rPr>
              <a:t>Local Studies Dep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4,500 Vol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Journal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ap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phemer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rchiv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cal Studies Libraria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taff Developm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E5B0D-C04C-4546-BE19-D8E5FFA740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ffff"/>
                </a:solidFill>
                <a:latin typeface="Tahoma"/>
              </a:rPr>
              <a:t>Digitisation in context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utomation of collec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3 Phas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ublishing-CD,Audio,Book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ational Initiatives-AAI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ocu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tructur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CE5F2-4AEB-4F10-9E40-D259913C2E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i="1" lang="en-IE" sz="4400" spc="-1" strike="noStrike">
                <a:solidFill>
                  <a:srgbClr val="ccffff"/>
                </a:solidFill>
                <a:latin typeface="Tahoma"/>
              </a:rPr>
              <a:t>Ask About Irelan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rchitecture-Thatched Houses in County Meath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e Big House-Charlesfort Estat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Flora and Fauna-Tobacco Growing in Meath 1898-1932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Poor Law Union-Dunshaughlin Workhous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rish Traditional Music-Turlough O’Carola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17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E0CC7-2C8F-49BD-A314-4A685D60D17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udent Zon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Homes Then and Now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Qualit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artnership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50B2F-B0B3-45B0-9232-2C10BA1425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enefi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Upskilling of staff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Outlet for unique materia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Access to national resour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Osi -Acces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Irish Times-Digital Archiv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ecff"/>
                </a:solidFill>
                <a:latin typeface="Tahoma"/>
              </a:rPr>
              <a:t>Goodwil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A17DF2-227E-4734-8963-E7F79BA9A6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7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uture Plans/Challen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way Papers- Challeng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udio Publishing- Opti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rchive and LS Resource Pack for School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ieldnam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hotographic Archive- Clare Library model ??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ibrary Website-Waterford County,Clare,Mayo,Sligo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E7B0F-34CE-4ABB-A178-80E6B77CF9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332000" y="1052640"/>
            <a:ext cx="6095880" cy="453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A1BC2-EFB5-4E47-A69D-2B52C74EF09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21:13:48Z</dcterms:created>
  <dc:creator>R. M. McKinley</dc:creator>
  <dc:description/>
  <dc:language>en-US</dc:language>
  <cp:lastModifiedBy>ntumelty</cp:lastModifiedBy>
  <cp:lastPrinted>2005-11-16T14:03:46Z</cp:lastPrinted>
  <dcterms:modified xsi:type="dcterms:W3CDTF">2008-05-26T11:27:22Z</dcterms:modified>
  <cp:revision>107</cp:revision>
  <dc:subject/>
  <dc:title>Community &amp; Enterprise</dc:title>
</cp:coreProperties>
</file>