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20A-8E89-4BEB-86AF-605A1135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703-07FC-468B-97D8-3C63835F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B99-C1EF-49C6-A84F-CCDF5A2A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CE7-4748-4EEC-94BE-BA024797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1D74-ED5E-40B4-A7C6-E9B683AA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F02C-D65A-450F-B934-CD31737D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7134-1F9F-4250-8320-5EE146E0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0C5C-57C5-4E7D-AE39-DAFC7EA3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9498-98F8-4763-A923-36653E26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603C-EA1D-4E44-B9A1-EE4F6C03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4AC0-8AA5-4147-98C2-126A5363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DEB-67B6-40D2-B802-E448E5EA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8AED-9AA6-4B05-B046-805399BE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5896-D2C0-49AA-8E72-674B3972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9955-5974-40EE-BAA6-0117C6F2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0B83-8808-44E5-BA9B-C409E95F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3F59-88EF-4557-B50C-08AEDFB6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BC1-E0ED-4594-88BE-A9BC2F93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380B-8F77-4F00-A1B5-F4C7238D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194-9530-45AC-B968-60D11AB2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13C-6894-4E79-BACC-70A5AD5A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067-073C-48FB-BB61-377F277F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328-DACF-45CC-A068-4FFE0580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32A-14F6-4D44-8834-E7A9B58D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77F5-C2C7-4193-B046-422B30FA3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DCB3-D92F-4096-995A-9310876E6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igitisation</a:t>
            </a:r>
            <a:br>
              <a:rPr sz="4400"/>
            </a:b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 Museum Perspectiv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lifford Hark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ead of Collections Manag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ational Museums N.Ire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Tahoma"/>
              </a:rPr>
              <a:t>Some basic questions?</a:t>
            </a:r>
            <a:br>
              <a:rPr sz="28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y do we get involved in digitis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w do we go about digitis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impact does digitisation make on us and our use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ere is it going to lea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5ffff"/>
                </a:solidFill>
                <a:latin typeface="Tahoma"/>
              </a:rPr>
              <a:t>Why do we get involved in digitisation?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very one else is doing i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are afraid of not being seen as progress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think it would be a great thing to 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mproving collections a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tent needed by others i.e. education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re are grant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are told to do i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5ffff"/>
                </a:solidFill>
                <a:latin typeface="Tahoma"/>
              </a:rPr>
              <a:t>How do we go about digitisation?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think of projects that we want to 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look for a grant or funding str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often set up some partnersh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set up Project Boards and Te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digitise all sorts of sourc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probably break some copy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stick it on the w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close the project and move on to an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5ffff"/>
                </a:solidFill>
                <a:latin typeface="Tahoma"/>
              </a:rPr>
              <a:t>What impact does digitisation make on us and our users?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t leads us into activities and relationships that are often new and a bit uncert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often digitise on Reithian princip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jects develop digital assets with no preservation or sustainability strate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 we really know if our digital online offerings are impactful and worth the resources we have used to put them in place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5ffff"/>
                </a:solidFill>
                <a:latin typeface="Tahoma"/>
              </a:rPr>
              <a:t>Where is it going to lead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are in the midst of a rising tide of demand to unlock public sector inform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re is island after island of cultural websites – do we build bridges between them or aggregate them in some form – or should we be bother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 are becoming broadcasters and publishers and so are the publ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at will be the impact of the thinking around Web 2 &amp; 3, social networking and social technolog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4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3:55:04Z</dcterms:created>
  <dc:creator>Clifford.Harkness</dc:creator>
  <dc:description/>
  <dc:language>en-US</dc:language>
  <cp:lastModifiedBy>ntumelty</cp:lastModifiedBy>
  <dcterms:modified xsi:type="dcterms:W3CDTF">2008-05-26T11:02:59Z</dcterms:modified>
  <cp:revision>30</cp:revision>
  <dc:subject/>
  <dc:title>Strengths </dc:title>
</cp:coreProperties>
</file>