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FBB-F9EE-4446-93CD-E5412FE0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D6F-4511-40D6-8741-A7FE32BD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44F-F41A-4435-A99D-2253DD00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9D3-6F38-4428-BCBA-52AB9A13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3EA7-14DF-4146-A0C1-1089136B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2B9F-E7D3-440A-8B82-62F046BD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C030-96F2-4DB2-98CD-48D5ECE0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9D73-AEC6-4F43-85AF-3F29E218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FC58-6B6D-4A85-9119-4951521B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6D7F-ACD0-4A64-8FBF-5B7CB30F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9D54-8BD9-41B8-B052-96F9F440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CC4-9957-46EA-8997-AC6025DC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2467-F100-477C-BC4F-535EBD5F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00C4-8654-433A-89D1-3A2F3792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2EAC-3750-4275-BA31-FA527AFC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1ED9-52DF-452E-9FB0-211D5328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85B4-9C2B-4049-A1E7-9CB42383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85F-E1F8-428A-8216-EE84974C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587-A3A7-4699-8CAF-9E042C3B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ADB-9BAC-474F-BFEF-623586F0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328-746E-4397-AF75-2F1B194C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8CE-0126-498E-B6FE-7504ACC0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D83-2F63-4D43-AEFA-4346E52A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136-9808-430D-AFE8-975B0BBE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70E9-3D8A-42F2-A3A7-DF6E2AE3F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E620-E431-40A3-B325-9AFC26365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igitisation</a:t>
            </a:r>
            <a:br>
              <a:rPr sz="4400"/>
            </a:b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 Museum Perspectiv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lifford Hark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ead of Collections Manag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ational Museums N.Ire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Tahoma"/>
              </a:rPr>
              <a:t>Some basic questions?</a:t>
            </a:r>
            <a:br>
              <a:rPr sz="28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y do we get involved in digitis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 do we go about digitis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impact does digitisation make on us and our us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ere is it going to lea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5ffff"/>
                </a:solidFill>
                <a:latin typeface="Tahoma"/>
              </a:rPr>
              <a:t>Why do we get involved in digitisation?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very one else is doing i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are afraid of not being seen as progress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think it would be a great thing to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mproving collections a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tent needed by others i.e. education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are grant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are told to do i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5ffff"/>
                </a:solidFill>
                <a:latin typeface="Tahoma"/>
              </a:rPr>
              <a:t>How do we go about digitisation?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think of projects that we want to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look for a grant or funding str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often set up some partnersh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set up Project Boards and Te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digitise all sorts of sourc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probably break some copy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stick it on the w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close the project and move on to an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5ffff"/>
                </a:solidFill>
                <a:latin typeface="Tahoma"/>
              </a:rPr>
              <a:t>What impact does digitisation make on us and our users?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t leads us into activities and relationships that are often new and a bit uncer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often digitise on Reithian princip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jects develop digital assets with no preservation or sustainability strate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 we really know if our digital online offerings are impactful and worth the resources we have used to put them in plac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5ffff"/>
                </a:solidFill>
                <a:latin typeface="Tahoma"/>
              </a:rPr>
              <a:t>Where is it going to lead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are in the midst of a rising tide of demand to unlock public sector infor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is island after island of cultural websites – do we build bridges between them or aggregate them in some form – or should we be bother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are becoming broadcasters and publishers and so are the publ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 will be the impact of the thinking around Web 2 &amp; 3, social networking and social technolog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55:04Z</dcterms:created>
  <dc:creator>Clifford.Harkness</dc:creator>
  <dc:description/>
  <dc:language>en-US</dc:language>
  <cp:lastModifiedBy>ntumelty</cp:lastModifiedBy>
  <dcterms:modified xsi:type="dcterms:W3CDTF">2008-05-26T11:02:59Z</dcterms:modified>
  <cp:revision>30</cp:revision>
  <dc:subject/>
  <dc:title>Strengths </dc:title>
</cp:coreProperties>
</file>