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CDCF-9AB6-48D4-B69A-BF809286B0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9996-6663-4115-9DEC-D08FC88BC9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8DE4-2152-4A0B-B739-BDB5A15B95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36A7-BE83-4F7F-B66E-52F07076C3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BA976-B2C7-4068-97B5-27BF8A6686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CB1E8-F7CF-459F-8373-5E915494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ED55-6074-416C-BC4D-DFD4FAA1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C7A6-FA1A-4160-AA5B-BB5AD52CAC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F7D0-EB6C-4C86-A554-374082EE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BA4C-EB9A-47D0-8DF6-A656BF17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3D64-5D13-4D94-B85E-61D97B76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9219-FFD1-463E-B090-C4E773E3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97094-F082-4AA3-9C8B-A3371FAA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88CFA-3756-4378-8812-AE64AAD9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1ADA4-ACB2-413F-9D7D-B20DBF51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D20E-56BE-45FB-8963-6F91B8EE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AD0E-D787-4D04-AD2B-585DB89773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FFAC-75D6-4592-B399-B105CA1D04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67640" y="5999040"/>
          <a:ext cx="1062000" cy="59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5999040"/>
                    <a:ext cx="10620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333399"/>
                </a:solidFill>
                <a:latin typeface="Arial"/>
              </a:rPr>
              <a:t>Digital Vision for Europe</a:t>
            </a:r>
            <a:br>
              <a:rPr sz="4000"/>
            </a:br>
            <a:r>
              <a:rPr b="1" i="1" lang="en-GB" sz="4000" spc="-1" strike="noStrike">
                <a:solidFill>
                  <a:srgbClr val="333399"/>
                </a:solidFill>
                <a:latin typeface="Arial"/>
              </a:rPr>
              <a:t>and Member States</a:t>
            </a:r>
            <a:br>
              <a:rPr sz="4000"/>
            </a:br>
            <a:br>
              <a:rPr sz="4000"/>
            </a:b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MINERVA-eC Workshop</a:t>
            </a:r>
            <a:br>
              <a:rPr sz="2400"/>
            </a:b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Belfast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5805360"/>
            <a:ext cx="1835280" cy="835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40360" y="6021360"/>
            <a:ext cx="792000" cy="31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16360" y="640872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c4156"/>
                </a:solidFill>
                <a:latin typeface="Arial"/>
              </a:rPr>
              <a:t>The MICHAEL Project is funded under the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c4156"/>
                </a:solidFill>
                <a:latin typeface="Arial"/>
              </a:rPr>
              <a:t>European Commission eTEN Program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4365720"/>
            <a:ext cx="64008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vid Daw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useums, Libraries and Archives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4005360"/>
            <a:ext cx="835164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uropean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ropean Digital Library, Museum and Arch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-for-profit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include European branches of ICA &amp; ICOM, LIBER, CERL, CENL and MICHAEL AIS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 launched in February as a ‘maquette’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ing how it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ork in a few year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or two little issues still need work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C5E3-5604-4DE2-898F-53E36A79C6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144000" cy="692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Europeana is going to work 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is Europeana going to work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bility Working Group established by the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resentatives and experts from all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ing high-leve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being developed by EDLNe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LA &amp; ABM-Centrum (cross-domain agency in Sweden) leading a workpackage to involve al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ed also by MINERVA-eC and othe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8B558-FF0B-44D0-9C96-2420839ED3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MinervaE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matic Network in the area of cultural, scientific information and scholarly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the creation of quality content for the EDL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centres of excellence in digit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o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ing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the MINERV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Guideline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63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838440" cy="61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478560" y="3141720"/>
            <a:ext cx="2490840" cy="35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D560-B53E-495B-B375-E5C6599CBF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588000" y="5373720"/>
            <a:ext cx="2556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1341360"/>
            <a:ext cx="5545080" cy="1511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antic interoperabilit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010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3429000"/>
            <a:ext cx="5545080" cy="18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2276640"/>
            <a:ext cx="3384720" cy="502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8 Search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3573360"/>
            <a:ext cx="93636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L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3573360"/>
            <a:ext cx="93672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D</a:t>
            </a:r>
            <a:br>
              <a:rPr sz="1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chives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3573360"/>
            <a:ext cx="100800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ECTRUM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CI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seum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44000" y="3789360"/>
            <a:ext cx="71892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3640" y="3789360"/>
            <a:ext cx="71928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789360"/>
            <a:ext cx="71892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95640" y="6237360"/>
            <a:ext cx="287280" cy="2872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6237360"/>
            <a:ext cx="28764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6237360"/>
            <a:ext cx="28764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48360" y="6237360"/>
            <a:ext cx="28764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8036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44000" y="6237360"/>
            <a:ext cx="287280" cy="287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4360" y="5444640"/>
            <a:ext cx="358560" cy="576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402920" y="5444640"/>
            <a:ext cx="576360" cy="576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276720" y="5444640"/>
            <a:ext cx="0" cy="576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300720" y="5084640"/>
            <a:ext cx="576360" cy="9367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7524720" y="5084640"/>
            <a:ext cx="432000" cy="9367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340000" y="5444640"/>
            <a:ext cx="0" cy="576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6237360"/>
            <a:ext cx="287280" cy="2872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5516640"/>
            <a:ext cx="1368360" cy="1189080"/>
          </a:xfrm>
          <a:prstGeom prst="rect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NE institution may have both library (MARC) and archives (EAD)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59640" y="3000600"/>
            <a:ext cx="2305080" cy="52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semantic interoperability (eg R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12000" y="5016600"/>
            <a:ext cx="1152720" cy="52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 Harv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3573360"/>
            <a:ext cx="93816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cholarly 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ublications</a:t>
            </a:r>
            <a:br>
              <a:rPr sz="12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ePrints 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4221000"/>
            <a:ext cx="79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Libraries 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4800600"/>
            <a:ext cx="9367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4800600"/>
            <a:ext cx="9363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4800600"/>
            <a:ext cx="9363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4800600"/>
            <a:ext cx="9367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84360" y="2997000"/>
            <a:ext cx="647640" cy="4316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419640" y="2997000"/>
            <a:ext cx="21564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692360" y="2997000"/>
            <a:ext cx="1008000" cy="4316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066920" y="2997000"/>
            <a:ext cx="7308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076720" y="2997000"/>
            <a:ext cx="21600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579640" y="2997000"/>
            <a:ext cx="36036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084360" y="2997000"/>
            <a:ext cx="35892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16720" y="3936960"/>
            <a:ext cx="2232000" cy="536040"/>
          </a:xfrm>
          <a:prstGeom prst="rect">
            <a:avLst/>
          </a:prstGeom>
          <a:solidFill>
            <a:srgbClr val="ffffff">
              <a:alpha val="34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ional portals</a:t>
            </a:r>
            <a:br>
              <a:rPr sz="2000"/>
            </a:b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(UK PNDS, FR Guichet, DE BAM etc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5373720"/>
            <a:ext cx="6192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300720" y="3933720"/>
            <a:ext cx="0" cy="1440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00720" y="3933720"/>
            <a:ext cx="2664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" y="692280"/>
            <a:ext cx="5461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European Digita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72000" y="5516640"/>
            <a:ext cx="216000" cy="5047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221000"/>
            <a:ext cx="79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Archives 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221000"/>
            <a:ext cx="792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Museums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67280" y="4221000"/>
            <a:ext cx="79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ePrints</a:t>
            </a:r>
            <a:br>
              <a:rPr sz="1000"/>
            </a:b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4437000"/>
            <a:ext cx="194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Who, what, where, when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3573360"/>
            <a:ext cx="938160" cy="7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ther …</a:t>
            </a:r>
            <a:br>
              <a:rPr sz="18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pecific 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4800600"/>
            <a:ext cx="93672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</a:rPr>
              <a:t>Controlled vocabul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4221000"/>
            <a:ext cx="79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FE315-26E7-4E1B-9A09-0D24BF2CA7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3933720"/>
            <a:ext cx="2448000" cy="1727280"/>
          </a:xfrm>
          <a:prstGeom prst="rect">
            <a:avLst/>
          </a:prstGeom>
          <a:solidFill>
            <a:srgbClr val="f5f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7308720" y="0"/>
            <a:ext cx="71640" cy="685800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4211640" y="909720"/>
            <a:ext cx="1152360" cy="1152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greg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7596360" y="476280"/>
            <a:ext cx="1079280" cy="72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826920" y="979560"/>
            <a:ext cx="1152720" cy="1154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D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474920" y="4076640"/>
            <a:ext cx="1009440" cy="1368360"/>
          </a:xfrm>
          <a:prstGeom prst="can">
            <a:avLst>
              <a:gd name="adj" fmla="val 1199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4643280" y="3789360"/>
            <a:ext cx="2087640" cy="1800360"/>
          </a:xfrm>
          <a:prstGeom prst="cube">
            <a:avLst>
              <a:gd name="adj" fmla="val 1299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mple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vanced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eted sear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brows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7813800" y="1052640"/>
            <a:ext cx="1079280" cy="72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7956720" y="1628640"/>
            <a:ext cx="1079280" cy="72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c0c0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5364000" y="1339920"/>
            <a:ext cx="2303640" cy="504720"/>
          </a:xfrm>
          <a:prstGeom prst="leftArrow">
            <a:avLst>
              <a:gd name="adj1" fmla="val 49685"/>
              <a:gd name="adj2" fmla="val 51389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v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 rot="10800000">
            <a:off x="4140000" y="1989000"/>
            <a:ext cx="1152360" cy="503280"/>
          </a:xfrm>
          <a:custGeom>
            <a:avLst/>
            <a:gdLst>
              <a:gd name="textAreaLeft" fmla="*/ 218520 w 1152360"/>
              <a:gd name="textAreaRight" fmla="*/ 824400 w 1152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97" hR="21600" stAng="10800000" swAng="5400000"/>
                <a:lnTo>
                  <a:pt x="11351" y="0"/>
                </a:lnTo>
                <a:arcTo wR="8197" hR="21600" stAng="-5400000" swAng="2888970"/>
                <a:lnTo>
                  <a:pt x="21164" y="14649"/>
                </a:lnTo>
                <a:lnTo>
                  <a:pt x="17970" y="21600"/>
                </a:lnTo>
                <a:lnTo>
                  <a:pt x="13904" y="14649"/>
                </a:lnTo>
                <a:lnTo>
                  <a:pt x="15957" y="14649"/>
                </a:lnTo>
                <a:arcTo wR="8197" hR="21600" stAng="-2511030" swAng="-2633674"/>
                <a:lnTo>
                  <a:pt x="9774" y="404"/>
                </a:lnTo>
                <a:arcTo wR="8197" hR="21600" stAng="-5655296" swAng="-5144704"/>
                <a:close/>
              </a:path>
              <a:path fill="darkenLess" w="21600" h="21600">
                <a:moveTo>
                  <a:pt x="0" y="21600"/>
                </a:moveTo>
                <a:arcTo wR="8197" hR="21600" stAng="10800000" swAng="5400000"/>
                <a:lnTo>
                  <a:pt x="8197" y="0"/>
                </a:lnTo>
                <a:arcTo wR="8197" hR="21600" stAng="-5400000" swAng="255296"/>
                <a:lnTo>
                  <a:pt x="9774" y="404"/>
                </a:lnTo>
                <a:arcTo wR="8197" hR="21600" stAng="-5655296" swAng="-5144704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5386320" y="6597720"/>
            <a:ext cx="182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7355520" y="659772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RNAL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0"/>
          <p:cNvSpPr/>
          <p:nvPr/>
        </p:nvSpPr>
        <p:spPr>
          <a:xfrm>
            <a:off x="1979640" y="1341360"/>
            <a:ext cx="2087640" cy="505080"/>
          </a:xfrm>
          <a:prstGeom prst="leftArrow">
            <a:avLst>
              <a:gd name="adj1" fmla="val 49685"/>
              <a:gd name="adj2" fmla="val 465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31"/>
          <p:cNvGrpSpPr/>
          <p:nvPr/>
        </p:nvGrpSpPr>
        <p:grpSpPr>
          <a:xfrm>
            <a:off x="7575480" y="4005360"/>
            <a:ext cx="1533600" cy="1344600"/>
            <a:chOff x="7575480" y="4005360"/>
            <a:chExt cx="1533600" cy="1344600"/>
          </a:xfrm>
        </p:grpSpPr>
        <p:sp>
          <p:nvSpPr>
            <p:cNvPr id="198" name="AutoShape 32"/>
            <p:cNvSpPr/>
            <p:nvPr/>
          </p:nvSpPr>
          <p:spPr>
            <a:xfrm>
              <a:off x="7575480" y="4005360"/>
              <a:ext cx="1533600" cy="1297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s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33"/>
            <p:cNvGrpSpPr/>
            <p:nvPr/>
          </p:nvGrpSpPr>
          <p:grpSpPr>
            <a:xfrm>
              <a:off x="7697880" y="4426200"/>
              <a:ext cx="1320840" cy="923760"/>
              <a:chOff x="7697880" y="4426200"/>
              <a:chExt cx="1320840" cy="923760"/>
            </a:xfrm>
          </p:grpSpPr>
          <p:pic>
            <p:nvPicPr>
              <p:cNvPr id="200" name="Picture 34" descr="workstation"/>
              <p:cNvPicPr/>
              <p:nvPr/>
            </p:nvPicPr>
            <p:blipFill>
              <a:blip r:embed="rId2"/>
              <a:stretch/>
            </p:blipFill>
            <p:spPr>
              <a:xfrm>
                <a:off x="8008920" y="4426200"/>
                <a:ext cx="1009800" cy="92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35" descr="user"/>
              <p:cNvPicPr/>
              <p:nvPr/>
            </p:nvPicPr>
            <p:blipFill>
              <a:blip r:embed="rId3"/>
              <a:stretch/>
            </p:blipFill>
            <p:spPr>
              <a:xfrm>
                <a:off x="7697880" y="4519800"/>
                <a:ext cx="571320" cy="75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2" name="AutoShape 38"/>
          <p:cNvSpPr/>
          <p:nvPr/>
        </p:nvSpPr>
        <p:spPr>
          <a:xfrm rot="15529800">
            <a:off x="766440" y="2922120"/>
            <a:ext cx="1946520" cy="504720"/>
          </a:xfrm>
          <a:prstGeom prst="leftArrow">
            <a:avLst>
              <a:gd name="adj1" fmla="val 49685"/>
              <a:gd name="adj2" fmla="val 43423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177336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87640" y="177336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321300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234936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755280" y="620280"/>
            <a:ext cx="1150920" cy="504720"/>
          </a:xfrm>
          <a:custGeom>
            <a:avLst/>
            <a:gdLst>
              <a:gd name="textAreaLeft" fmla="*/ 220320 w 1150920"/>
              <a:gd name="textAreaRight" fmla="*/ 815400 w 1150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75" hR="21600" stAng="10800000" swAng="-5400000"/>
                <a:lnTo>
                  <a:pt x="11165" y="21600"/>
                </a:lnTo>
                <a:arcTo wR="8275" hR="21600" stAng="5400000" swAng="-2968068"/>
                <a:lnTo>
                  <a:pt x="21189" y="6724"/>
                </a:lnTo>
                <a:lnTo>
                  <a:pt x="17995" y="0"/>
                </a:lnTo>
                <a:lnTo>
                  <a:pt x="13979" y="6724"/>
                </a:lnTo>
                <a:lnTo>
                  <a:pt x="16139" y="6724"/>
                </a:lnTo>
                <a:arcTo wR="8275" hR="21600" stAng="2431932" swAng="2734859"/>
                <a:lnTo>
                  <a:pt x="9720" y="21268"/>
                </a:lnTo>
                <a:arcTo wR="8275" hR="21600" stAng="5633209" swAng="5166791"/>
                <a:close/>
              </a:path>
              <a:path fill="darkenLess" w="21600" h="21600">
                <a:moveTo>
                  <a:pt x="0" y="0"/>
                </a:moveTo>
                <a:arcTo wR="8275" hR="21600" stAng="10800000" swAng="-5400000"/>
                <a:lnTo>
                  <a:pt x="11165" y="21600"/>
                </a:lnTo>
                <a:arcTo wR="8275" hR="21600" stAng="5400000" swAng="233209"/>
                <a:lnTo>
                  <a:pt x="9720" y="21268"/>
                </a:lnTo>
                <a:arcTo wR="8275" hR="21600" stAng="5633209" swAng="5166791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22200" y="4076640"/>
            <a:ext cx="1009800" cy="1368360"/>
          </a:xfrm>
          <a:prstGeom prst="can">
            <a:avLst>
              <a:gd name="adj" fmla="val 11990"/>
            </a:avLst>
          </a:prstGeom>
          <a:gradFill rotWithShape="0">
            <a:gsLst>
              <a:gs pos="0">
                <a:srgbClr val="6699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urope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8"/>
          <p:cNvSpPr/>
          <p:nvPr/>
        </p:nvSpPr>
        <p:spPr>
          <a:xfrm rot="16938000">
            <a:off x="19440" y="2921760"/>
            <a:ext cx="1944720" cy="504720"/>
          </a:xfrm>
          <a:prstGeom prst="leftArrow">
            <a:avLst>
              <a:gd name="adj1" fmla="val 49685"/>
              <a:gd name="adj2" fmla="val 43383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9640" y="407664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4360" y="278136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9"/>
          <p:cNvSpPr/>
          <p:nvPr/>
        </p:nvSpPr>
        <p:spPr>
          <a:xfrm>
            <a:off x="2627280" y="4292640"/>
            <a:ext cx="1944720" cy="865080"/>
          </a:xfrm>
          <a:prstGeom prst="leftRightArrow">
            <a:avLst>
              <a:gd name="adj1" fmla="val 46074"/>
              <a:gd name="adj2" fmla="val 4745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5640" y="413244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9"/>
          <p:cNvSpPr/>
          <p:nvPr/>
        </p:nvSpPr>
        <p:spPr>
          <a:xfrm>
            <a:off x="6732720" y="4581360"/>
            <a:ext cx="863640" cy="503280"/>
          </a:xfrm>
          <a:prstGeom prst="leftRightArrow">
            <a:avLst>
              <a:gd name="adj1" fmla="val 46074"/>
              <a:gd name="adj2" fmla="val 3622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8920" y="53172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109440" y="-270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24720" y="5950080"/>
            <a:ext cx="136836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DDF8-2AC1-46F0-9FF4-DA7655633A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abling the EDL to promote your cont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DL will help you to promote your content to new audiences. Get involved! Start plann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cont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your content using open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INERVA Technical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existing catalogu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to map your data to domain-specific Dublin Core Application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olog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o take the opportunity offered by the 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your terminologies and thesauri using SK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your content vi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your content and services with existing registries - such as TEL and MICH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802E-4CE4-40E7-B7F6-870196B151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ommission has asked all Member States to tak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digit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IPR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pr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 Ministers have agreed to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raw up and update plans and national strategies for digitisation of cultural mate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t up national coordination mechanisms for digitisation activities, including at the regional and local levels, in the field of cultural cont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ission established Member States Experts Group to enable coord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3E1F-E630-4385-BF57-040CBCE441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acticalit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nglan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ltural sector content aggregated into the People’s Network Discover Service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ly harvests metadata of c 500,000 digit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MLA-funded activity (DCF, Renaiss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projects using infrastructure to deliver thei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d 4 million digital objects b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into the redevelopment of the 24 Hour Museum website and the work of Collections Trust with SS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with JISC and Research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23B7-9504-40AD-B520-B4B6207F1C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4403880" cy="640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tful of Jew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68000" y="1267920"/>
            <a:ext cx="6875640" cy="5040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network will be a personal cultural medium for the age of personal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ant museums to provide collection related information and they want interactive, participative services, too. Both are essential to the digital muse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eum resources of all kinds must be linked to those from libraries, archives, universities and other arts, humanities and science institutions world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27932-80A4-4606-A936-513BFB62DB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actical suppo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ange of projects funded under the eContentPlu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DLo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for getting metadata to Europe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 - Collections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reland – Library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eum content for Europe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 – Collections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reland – National Mus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46BA-AD2E-4A7D-BE08-EF0745048A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on and assessment of targets for harvesting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work on building harvester st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1 – initial work on business models in EDL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3 - MICHAEL project conference marks end of EU funded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eContentPlus support projects begin (EDLo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- Launch of Due Diligence Guidelines on Orphan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3-24 - Europeana initial prototype being reviewed at a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erence in the Hague (any volunteers??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nch Presidency begin reviewing progress by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profile launch by Commissioner R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nch Presidency present progress report to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lture Ministers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CEFD1-7160-4BDF-AF47-57EC63900A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.dawson@mla.gov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5734080"/>
            <a:ext cx="1511280" cy="747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175280" y="6021360"/>
            <a:ext cx="7920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European Digital Libr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litical initiative – part of the i2010 EU IT strateg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a common multilingual access point to Europe’s distribute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d in different places by different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ypes of  cultural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s, audiovisual, museum objects, archival record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at delivering rapidly a critical mass of resources to the 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5950080"/>
            <a:ext cx="1331640" cy="65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84720" y="6165720"/>
            <a:ext cx="79200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41746-C972-4C5B-A74A-CCEFF3D0F5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uilding block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uropean Library (TEL) as a gateway to the collective resources of national libraries across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ongoing in the Michael project in describing and linking digital collections of museums, libraries and archives from different Member States and providing  access to these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5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172360" y="6424560"/>
            <a:ext cx="79236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C7EF-3A70-4525-BE04-EAD09955B3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ICHAE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ICHA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lingual Inventory of Cultural Heri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16 countries across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portal launche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gital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sites, elearn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bases, CD / D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ing to link to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iculum Online, EU Schoolnet, JISC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stained by a not-for-profit organisation – MICHAEL AIS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include FR, IT, DE, PL, GR and more to 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stries of Culture + their representatives – including M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 of the Europeana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98764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5D75-02B8-4A6E-83AF-ABAB9B5D2D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588000" y="5373720"/>
            <a:ext cx="2556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1773360"/>
            <a:ext cx="3457440" cy="1152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Digita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789360"/>
            <a:ext cx="201744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5661000"/>
            <a:ext cx="158436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3429000"/>
            <a:ext cx="3097080" cy="1152360"/>
          </a:xfrm>
          <a:prstGeom prst="ellipse">
            <a:avLst/>
          </a:prstGeom>
          <a:solidFill>
            <a:srgbClr val="ff99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429000"/>
            <a:ext cx="2160360" cy="1152360"/>
          </a:xfrm>
          <a:prstGeom prst="ellipse">
            <a:avLst/>
          </a:prstGeom>
          <a:solidFill>
            <a:srgbClr val="ff9900">
              <a:alpha val="67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 Servi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5589720"/>
            <a:ext cx="720720" cy="64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5589720"/>
            <a:ext cx="720720" cy="64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5589720"/>
            <a:ext cx="720720" cy="64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27280" y="4581360"/>
            <a:ext cx="865080" cy="935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419640" y="4724280"/>
            <a:ext cx="431640" cy="71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284720" y="4797000"/>
            <a:ext cx="142920" cy="576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76720" y="4868640"/>
            <a:ext cx="71640" cy="647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363640" y="4797360"/>
            <a:ext cx="576360" cy="71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56360" y="4724280"/>
            <a:ext cx="216000" cy="71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516720" y="4797000"/>
            <a:ext cx="503280" cy="6462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804000" y="4724280"/>
            <a:ext cx="1008000" cy="64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0" y="2997000"/>
            <a:ext cx="216000" cy="431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372360" y="2997000"/>
            <a:ext cx="287280" cy="431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uropean Digital Library and MICHA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24000" y="5589720"/>
          <a:ext cx="665280" cy="66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5589720"/>
                    <a:ext cx="6652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906720" y="5589720"/>
          <a:ext cx="665280" cy="66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06720" y="5589720"/>
                    <a:ext cx="6652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651640" y="5589720"/>
          <a:ext cx="73656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5589720"/>
                    <a:ext cx="7365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7524720" y="5589720"/>
          <a:ext cx="719280" cy="71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24720" y="5589720"/>
                    <a:ext cx="7192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184E-D76B-4040-B56E-C2FEDA69E0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Why are Service Registries needed?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where content is and how it is man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Environment Service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 technical details of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schemas, interoperability protocols, terminologi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construction of machine-to-machin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FB01-1BAA-49C9-AED2-19FF32A499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Europeana:</a:t>
            </a:r>
            <a:br>
              <a:rPr sz="48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urope’s digital museum, library and archiv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6:38:18Z</dcterms:created>
  <dc:creator>KateF</dc:creator>
  <dc:description/>
  <dc:language>en-US</dc:language>
  <cp:lastModifiedBy>jward</cp:lastModifiedBy>
  <dcterms:modified xsi:type="dcterms:W3CDTF">2008-05-22T08:29:45Z</dcterms:modified>
  <cp:revision>547</cp:revision>
  <dc:subject/>
  <dc:title>Slide 1</dc:title>
</cp:coreProperties>
</file>