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0.png" ContentType="image/png"/>
  <Override PartName="/ppt/media/image9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8104-033C-4281-9507-441D8BE4D0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F985-A69B-4372-894B-889EED98EB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5F41-F6EB-419A-B00F-B38812C2F0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2EA6-46C8-455D-B4FE-4B0DB8D0D3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CADBB-E979-469F-BF4F-72EC772B2B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A8C32-A823-4E68-ADCC-0AA809EB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3E1CE-37FC-456B-8824-8D6AF2FC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AB3F-E150-4633-B3E3-BC826834F7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B9583-4677-47A3-9520-ECBFD01C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5349F-E897-4021-BBDA-1063DBC1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BC099-8DD2-4210-9DFC-9F886AA6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A2DC6-DD05-4FA3-BC1C-C5B6E9B2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ED472-3BED-4546-86F2-5C6044DC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1769C-CDE4-4FCB-85C9-B9976951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80AF8-77D6-4CF6-AE53-66D7137F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E2EFD-46D5-4A1F-B4BF-29C1ACBF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491D-A51D-47D0-AFED-48D46F8A580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7F28-2EE9-43DE-B8C0-5A1AAE30FB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67640" y="5999040"/>
          <a:ext cx="1062000" cy="59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7640" y="5999040"/>
                    <a:ext cx="106200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640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333399"/>
                </a:solidFill>
                <a:latin typeface="Arial"/>
              </a:rPr>
              <a:t>Digital Vision for Europe</a:t>
            </a:r>
            <a:br>
              <a:rPr sz="4000"/>
            </a:br>
            <a:r>
              <a:rPr b="1" i="1" lang="en-GB" sz="4000" spc="-1" strike="noStrike">
                <a:solidFill>
                  <a:srgbClr val="333399"/>
                </a:solidFill>
                <a:latin typeface="Arial"/>
              </a:rPr>
              <a:t>and Member States</a:t>
            </a:r>
            <a:br>
              <a:rPr sz="4000"/>
            </a:br>
            <a:br>
              <a:rPr sz="4000"/>
            </a:br>
            <a:r>
              <a:rPr b="1" i="1" lang="en-GB" sz="2400" spc="-1" strike="noStrike">
                <a:solidFill>
                  <a:srgbClr val="333399"/>
                </a:solidFill>
                <a:latin typeface="Arial"/>
              </a:rPr>
              <a:t>MINERVA-eC Workshop</a:t>
            </a:r>
            <a:br>
              <a:rPr sz="2400"/>
            </a:br>
            <a:r>
              <a:rPr b="1" i="1" lang="en-GB" sz="2400" spc="-1" strike="noStrike">
                <a:solidFill>
                  <a:srgbClr val="333399"/>
                </a:solidFill>
                <a:latin typeface="Arial"/>
              </a:rPr>
              <a:t>Belfast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5805360"/>
            <a:ext cx="1835280" cy="835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40360" y="6021360"/>
            <a:ext cx="792000" cy="317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16360" y="640872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c4156"/>
                </a:solidFill>
                <a:latin typeface="Arial"/>
              </a:rPr>
              <a:t>The MICHAEL Project is funded under the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c4156"/>
                </a:solidFill>
                <a:latin typeface="Arial"/>
              </a:rPr>
              <a:t>European Commission eTEN Program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4365720"/>
            <a:ext cx="64008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vid Daw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useums, Libraries and Archives 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4005360"/>
            <a:ext cx="835164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uropean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ropean Digital Library, Museum and Arch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-for-profit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include European branches of ICA &amp; ICOM, LIBER, CERL, CENL and MICHAEL AISB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 launched in February as a ‘maquette’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ing how it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igh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ork in a few year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or two little issues still need work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8EDC4-B688-4031-A833-0587E0E152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0"/>
          <a:ext cx="9144000" cy="692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w Europeana is going to work 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is Europeana going to work?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operability Working Group established by the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resentatives and experts from all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ing high-leve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being developed by EDLNe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LA &amp; ABM-Centrum (cross-domain agency in Sweden) leading a workpackage to involve al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ed also by MINERVA-eC and other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14C81-7310-4007-90BF-03BF0865AE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MinervaE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matic Network in the area of cultural, scientific information and scholarly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the creation of quality content for the EDL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centres of excellence in digit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o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ing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ing the MINERV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Guidelines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631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66680" y="0"/>
            <a:ext cx="838440" cy="61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478560" y="3141720"/>
            <a:ext cx="2490840" cy="352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0484E-84D9-4A6F-85BE-B2EF207E20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588000" y="5373720"/>
            <a:ext cx="2556000" cy="14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1341360"/>
            <a:ext cx="5545080" cy="1511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mantic interoperability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010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3429000"/>
            <a:ext cx="5545080" cy="187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2276640"/>
            <a:ext cx="3384720" cy="502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8 Search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3573360"/>
            <a:ext cx="936360" cy="719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L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3573360"/>
            <a:ext cx="936720" cy="719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D</a:t>
            </a:r>
            <a:br>
              <a:rPr sz="1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rchives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3573360"/>
            <a:ext cx="1008000" cy="719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PECTRUM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CI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seum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44000" y="3789360"/>
            <a:ext cx="71892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3640" y="3789360"/>
            <a:ext cx="71928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789360"/>
            <a:ext cx="71892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95640" y="6237360"/>
            <a:ext cx="287280" cy="2872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6237360"/>
            <a:ext cx="28764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600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8800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1964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164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6237360"/>
            <a:ext cx="28764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1672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48360" y="6237360"/>
            <a:ext cx="28764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8036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1200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4400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84360" y="5444640"/>
            <a:ext cx="358560" cy="576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1402920" y="5444640"/>
            <a:ext cx="576360" cy="576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276720" y="5444640"/>
            <a:ext cx="0" cy="576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300720" y="5084640"/>
            <a:ext cx="576360" cy="9367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7524720" y="5084640"/>
            <a:ext cx="432000" cy="9367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340000" y="5444640"/>
            <a:ext cx="0" cy="576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6237360"/>
            <a:ext cx="287280" cy="2872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5516640"/>
            <a:ext cx="1368360" cy="1189080"/>
          </a:xfrm>
          <a:prstGeom prst="rect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NE institution may have both library (MARC) and archives (EAD)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59640" y="3000600"/>
            <a:ext cx="2305080" cy="52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semantic interoperability (eg R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12000" y="5016600"/>
            <a:ext cx="1152720" cy="52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 Harv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3573360"/>
            <a:ext cx="938160" cy="719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cholarly 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ublications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ePrints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4221000"/>
            <a:ext cx="79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Libraries 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3640" y="4800600"/>
            <a:ext cx="93672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ntrolled vocabula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4800600"/>
            <a:ext cx="93636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ntrolled vocabula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4800600"/>
            <a:ext cx="93636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ntrolled vocabula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95640" y="4800600"/>
            <a:ext cx="93672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ntrolled vocabula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484360" y="2997000"/>
            <a:ext cx="647640" cy="43164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419640" y="2997000"/>
            <a:ext cx="215640" cy="360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692360" y="2997000"/>
            <a:ext cx="1008000" cy="43164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066920" y="2997000"/>
            <a:ext cx="73080" cy="360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076720" y="2997000"/>
            <a:ext cx="216000" cy="360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579640" y="2997000"/>
            <a:ext cx="360360" cy="360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084360" y="2997000"/>
            <a:ext cx="358920" cy="360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16720" y="3936960"/>
            <a:ext cx="2232000" cy="536040"/>
          </a:xfrm>
          <a:prstGeom prst="rect">
            <a:avLst/>
          </a:prstGeom>
          <a:solidFill>
            <a:srgbClr val="ffffff">
              <a:alpha val="34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tional portals</a:t>
            </a:r>
            <a:br>
              <a:rPr sz="2000"/>
            </a:b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(UK PNDS, FR Guichet, DE BAM etc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8000" y="5373720"/>
            <a:ext cx="6192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300720" y="3933720"/>
            <a:ext cx="0" cy="1440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00720" y="3933720"/>
            <a:ext cx="26640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" y="692280"/>
            <a:ext cx="5461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European Digita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572000" y="5516640"/>
            <a:ext cx="216000" cy="5047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4221000"/>
            <a:ext cx="79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Archives 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221000"/>
            <a:ext cx="792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Museums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67280" y="4221000"/>
            <a:ext cx="79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ePrints</a:t>
            </a:r>
            <a:br>
              <a:rPr sz="1000"/>
            </a:b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59640" y="4437000"/>
            <a:ext cx="1944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Who, what, where, when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3573360"/>
            <a:ext cx="938160" cy="719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ther …</a:t>
            </a:r>
            <a:br>
              <a:rPr sz="18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pecific 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76720" y="4800600"/>
            <a:ext cx="93672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ntrolled vocabula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4221000"/>
            <a:ext cx="79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A233-773F-454A-B363-C7AA7124C6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3933720"/>
            <a:ext cx="2448000" cy="1727280"/>
          </a:xfrm>
          <a:prstGeom prst="rect">
            <a:avLst/>
          </a:prstGeom>
          <a:solidFill>
            <a:srgbClr val="f5f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7308720" y="0"/>
            <a:ext cx="71640" cy="685800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4211640" y="909720"/>
            <a:ext cx="1152360" cy="1152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99ff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uropea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greg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7596360" y="476280"/>
            <a:ext cx="1079280" cy="72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0c0c0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826920" y="979560"/>
            <a:ext cx="1152720" cy="1154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99ff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uropea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D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474920" y="4076640"/>
            <a:ext cx="1009440" cy="1368360"/>
          </a:xfrm>
          <a:prstGeom prst="can">
            <a:avLst>
              <a:gd name="adj" fmla="val 11990"/>
            </a:avLst>
          </a:prstGeom>
          <a:gradFill rotWithShape="0">
            <a:gsLst>
              <a:gs pos="0">
                <a:srgbClr val="6699ff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urope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4643280" y="3789360"/>
            <a:ext cx="2087640" cy="1800360"/>
          </a:xfrm>
          <a:prstGeom prst="cube">
            <a:avLst>
              <a:gd name="adj" fmla="val 12990"/>
            </a:avLst>
          </a:prstGeom>
          <a:gradFill rotWithShape="0">
            <a:gsLst>
              <a:gs pos="0">
                <a:srgbClr val="6699ff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uropeana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mple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vanced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eted sear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brows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7813800" y="1052640"/>
            <a:ext cx="1079280" cy="72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0c0c0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7956720" y="1628640"/>
            <a:ext cx="1079280" cy="72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0c0c0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5364000" y="1339920"/>
            <a:ext cx="2303640" cy="504720"/>
          </a:xfrm>
          <a:prstGeom prst="leftArrow">
            <a:avLst>
              <a:gd name="adj1" fmla="val 49685"/>
              <a:gd name="adj2" fmla="val 51389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rv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 rot="10800000">
            <a:off x="4140000" y="1989000"/>
            <a:ext cx="1152360" cy="503280"/>
          </a:xfrm>
          <a:custGeom>
            <a:avLst/>
            <a:gdLst>
              <a:gd name="textAreaLeft" fmla="*/ 218520 w 1152360"/>
              <a:gd name="textAreaRight" fmla="*/ 824400 w 115236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97" hR="21600" stAng="10800000" swAng="5400000"/>
                <a:lnTo>
                  <a:pt x="11351" y="0"/>
                </a:lnTo>
                <a:arcTo wR="8197" hR="21600" stAng="-5400000" swAng="2888970"/>
                <a:lnTo>
                  <a:pt x="21164" y="14649"/>
                </a:lnTo>
                <a:lnTo>
                  <a:pt x="17970" y="21600"/>
                </a:lnTo>
                <a:lnTo>
                  <a:pt x="13904" y="14649"/>
                </a:lnTo>
                <a:lnTo>
                  <a:pt x="15957" y="14649"/>
                </a:lnTo>
                <a:arcTo wR="8197" hR="21600" stAng="-2511030" swAng="-2633674"/>
                <a:lnTo>
                  <a:pt x="9774" y="404"/>
                </a:lnTo>
                <a:arcTo wR="8197" hR="21600" stAng="-5655296" swAng="-5144704"/>
                <a:close/>
              </a:path>
              <a:path fill="darkenLess" w="21600" h="21600">
                <a:moveTo>
                  <a:pt x="0" y="21600"/>
                </a:moveTo>
                <a:arcTo wR="8197" hR="21600" stAng="10800000" swAng="5400000"/>
                <a:lnTo>
                  <a:pt x="8197" y="0"/>
                </a:lnTo>
                <a:arcTo wR="8197" hR="21600" stAng="-5400000" swAng="255296"/>
                <a:lnTo>
                  <a:pt x="9774" y="404"/>
                </a:lnTo>
                <a:arcTo wR="8197" hR="21600" stAng="-5655296" swAng="-5144704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5386320" y="6597720"/>
            <a:ext cx="182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AN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7355520" y="659772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RNAL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0"/>
          <p:cNvSpPr/>
          <p:nvPr/>
        </p:nvSpPr>
        <p:spPr>
          <a:xfrm>
            <a:off x="1979640" y="1341360"/>
            <a:ext cx="2087640" cy="505080"/>
          </a:xfrm>
          <a:prstGeom prst="leftArrow">
            <a:avLst>
              <a:gd name="adj1" fmla="val 49685"/>
              <a:gd name="adj2" fmla="val 4653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31"/>
          <p:cNvGrpSpPr/>
          <p:nvPr/>
        </p:nvGrpSpPr>
        <p:grpSpPr>
          <a:xfrm>
            <a:off x="7575480" y="4005360"/>
            <a:ext cx="1533600" cy="1344600"/>
            <a:chOff x="7575480" y="4005360"/>
            <a:chExt cx="1533600" cy="1344600"/>
          </a:xfrm>
        </p:grpSpPr>
        <p:sp>
          <p:nvSpPr>
            <p:cNvPr id="198" name="AutoShape 32"/>
            <p:cNvSpPr/>
            <p:nvPr/>
          </p:nvSpPr>
          <p:spPr>
            <a:xfrm>
              <a:off x="7575480" y="4005360"/>
              <a:ext cx="1533600" cy="1297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s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33"/>
            <p:cNvGrpSpPr/>
            <p:nvPr/>
          </p:nvGrpSpPr>
          <p:grpSpPr>
            <a:xfrm>
              <a:off x="7697880" y="4426200"/>
              <a:ext cx="1320840" cy="923760"/>
              <a:chOff x="7697880" y="4426200"/>
              <a:chExt cx="1320840" cy="923760"/>
            </a:xfrm>
          </p:grpSpPr>
          <p:pic>
            <p:nvPicPr>
              <p:cNvPr id="200" name="Picture 34" descr="workstation"/>
              <p:cNvPicPr/>
              <p:nvPr/>
            </p:nvPicPr>
            <p:blipFill>
              <a:blip r:embed="rId2"/>
              <a:stretch/>
            </p:blipFill>
            <p:spPr>
              <a:xfrm>
                <a:off x="8008920" y="4426200"/>
                <a:ext cx="1009800" cy="92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Picture 35" descr="user"/>
              <p:cNvPicPr/>
              <p:nvPr/>
            </p:nvPicPr>
            <p:blipFill>
              <a:blip r:embed="rId3"/>
              <a:stretch/>
            </p:blipFill>
            <p:spPr>
              <a:xfrm>
                <a:off x="7697880" y="4519800"/>
                <a:ext cx="571320" cy="752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2" name="AutoShape 38"/>
          <p:cNvSpPr/>
          <p:nvPr/>
        </p:nvSpPr>
        <p:spPr>
          <a:xfrm rot="15529800">
            <a:off x="766440" y="2922120"/>
            <a:ext cx="1946520" cy="504720"/>
          </a:xfrm>
          <a:prstGeom prst="leftArrow">
            <a:avLst>
              <a:gd name="adj1" fmla="val 49685"/>
              <a:gd name="adj2" fmla="val 43423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177336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87640" y="177336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321300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234936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0800000">
            <a:off x="755280" y="620280"/>
            <a:ext cx="1150920" cy="504720"/>
          </a:xfrm>
          <a:custGeom>
            <a:avLst/>
            <a:gdLst>
              <a:gd name="textAreaLeft" fmla="*/ 220320 w 1150920"/>
              <a:gd name="textAreaRight" fmla="*/ 815400 w 11509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75" hR="21600" stAng="10800000" swAng="-5400000"/>
                <a:lnTo>
                  <a:pt x="11165" y="21600"/>
                </a:lnTo>
                <a:arcTo wR="8275" hR="21600" stAng="5400000" swAng="-2968068"/>
                <a:lnTo>
                  <a:pt x="21189" y="6724"/>
                </a:lnTo>
                <a:lnTo>
                  <a:pt x="17995" y="0"/>
                </a:lnTo>
                <a:lnTo>
                  <a:pt x="13979" y="6724"/>
                </a:lnTo>
                <a:lnTo>
                  <a:pt x="16139" y="6724"/>
                </a:lnTo>
                <a:arcTo wR="8275" hR="21600" stAng="2431932" swAng="2734859"/>
                <a:lnTo>
                  <a:pt x="9720" y="21268"/>
                </a:lnTo>
                <a:arcTo wR="8275" hR="21600" stAng="5633209" swAng="5166791"/>
                <a:close/>
              </a:path>
              <a:path fill="darkenLess" w="21600" h="21600">
                <a:moveTo>
                  <a:pt x="0" y="0"/>
                </a:moveTo>
                <a:arcTo wR="8275" hR="21600" stAng="10800000" swAng="-5400000"/>
                <a:lnTo>
                  <a:pt x="11165" y="21600"/>
                </a:lnTo>
                <a:arcTo wR="8275" hR="21600" stAng="5400000" swAng="233209"/>
                <a:lnTo>
                  <a:pt x="9720" y="21268"/>
                </a:lnTo>
                <a:arcTo wR="8275" hR="21600" stAng="5633209" swAng="5166791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22200" y="4076640"/>
            <a:ext cx="1009800" cy="1368360"/>
          </a:xfrm>
          <a:prstGeom prst="can">
            <a:avLst>
              <a:gd name="adj" fmla="val 11990"/>
            </a:avLst>
          </a:prstGeom>
          <a:gradFill rotWithShape="0">
            <a:gsLst>
              <a:gs pos="0">
                <a:srgbClr val="6699ff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uropea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8"/>
          <p:cNvSpPr/>
          <p:nvPr/>
        </p:nvSpPr>
        <p:spPr>
          <a:xfrm rot="16938000">
            <a:off x="19440" y="2921760"/>
            <a:ext cx="1944720" cy="504720"/>
          </a:xfrm>
          <a:prstGeom prst="leftArrow">
            <a:avLst>
              <a:gd name="adj1" fmla="val 49685"/>
              <a:gd name="adj2" fmla="val 43383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9640" y="407664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84360" y="278136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9"/>
          <p:cNvSpPr/>
          <p:nvPr/>
        </p:nvSpPr>
        <p:spPr>
          <a:xfrm>
            <a:off x="2627280" y="4292640"/>
            <a:ext cx="1944720" cy="865080"/>
          </a:xfrm>
          <a:prstGeom prst="leftRightArrow">
            <a:avLst>
              <a:gd name="adj1" fmla="val 46074"/>
              <a:gd name="adj2" fmla="val 4745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5640" y="413244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9"/>
          <p:cNvSpPr/>
          <p:nvPr/>
        </p:nvSpPr>
        <p:spPr>
          <a:xfrm>
            <a:off x="6732720" y="4581360"/>
            <a:ext cx="863640" cy="503280"/>
          </a:xfrm>
          <a:prstGeom prst="leftRightArrow">
            <a:avLst>
              <a:gd name="adj1" fmla="val 46074"/>
              <a:gd name="adj2" fmla="val 3622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8920" y="53172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109440" y="-2700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24720" y="5950080"/>
            <a:ext cx="1368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E9EDE-684B-4184-BEAE-BD03333836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nabling the EDL to promote your conte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DL will help you to promote your content to new audiences. Get involved! Start plann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cont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al stand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your content using open standa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INERVA Technical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existing cataloguing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 to map your data to domain-specific Dublin Core Application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inolog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o take the opportunity offered by the semantic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your terminologies and thesauri using SK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your content vi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your content and services with existing registries - such as TEL and MICH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17DC7-2BAE-44FB-9B03-0A2B927946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rategic issu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Commission has asked all Member States to tak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digit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kle IPR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pre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e Ministers have agreed to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raw up and update plans and national strategies for digitisation of cultural mater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t up national coordination mechanisms for digitisation activities, including at the regional and local levels, in the field of cultural cont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ission established Member States Experts Group to enable coord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06EB3-740C-471D-B307-14F0D0E230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acticalit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686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ngland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ltural sector content aggregated into the People’s Network Discover Service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ly harvests metadata of c 500,000 digit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MLA-funded activity (DCF, Renaiss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projects using infrastructure to deliver thei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d 4 million digital objects b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into the redevelopment of the 24 Hour Museum website and the work of Collections Trust with SS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 with JISC and Research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95D7E-5331-4C70-BBA4-D94AE8188D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4403880" cy="6408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Netful of Jewe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68000" y="1267920"/>
            <a:ext cx="6875640" cy="5040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 network will be a personal cultural medium for the age of personal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ant museums to provide collection related information and they want interactive, participative services, too. Both are essential to the digital muse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eum resources of all kinds must be linked to those from libraries, archives, universities and other arts, humanities and science institutions worldw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6FF8-96E6-4D36-96D0-4020BB3175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actical suppor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ange of projects funded under the eContentPlu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DLo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for getting metadata to Europe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 - Collections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reland – Library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seum content for Europe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 – Collections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reland – National Muse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BFD97-2251-4F53-856B-27ADCA6158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ion and assessment of targets for harvesting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work on building harvester st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1 – initial work on business models in EDL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3 - MICHAEL project conference marks end of EU funded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eContentPlus support projects begin (EDLo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- Launch of Due Diligence Guidelines on Orphan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3-24 - Europeana initial prototype being reviewed at a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erence in the Hague (any volunteers??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nch Presidency begin reviewing progress by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profile launch by Commissioner R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nch Presidency present progress report to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lture Ministers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9CDEF-88F3-4F46-B236-67B2F6DA2F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.dawson@mla.gov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0920" y="5734080"/>
            <a:ext cx="1511280" cy="747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175280" y="6021360"/>
            <a:ext cx="7920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European Digital Libr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litical initiative – part of the i2010 EU IT strategy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be a common multilingual access point to Europe’s distribute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d in different places by different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ypes of  cultural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s, audiovisual, museum objects, archival record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at delivering rapidly a critical mass of resources to the us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5950080"/>
            <a:ext cx="1331640" cy="65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84720" y="6165720"/>
            <a:ext cx="792000" cy="31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616A-D307-48AE-847A-01E91FEFB1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uilding block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uropean Library (TEL) as a gateway to the collective resources of national libraries across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k ongoing in the Michael project in describing and linking digital collections of museums, libraries and archives from different Member States and providing  access to these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65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172360" y="6424560"/>
            <a:ext cx="792360" cy="31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15568-DF5B-43C2-8713-D568EB1BE1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ICHAE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ICHA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686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lingual Inventory of Cultural Heri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16 countries across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an portal launched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gital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sites, elearning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bases, CD / D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ming to link to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iculum Online, EU Schoolnet, JISC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stained by a not-for-profit organisation – MICHAEL AIS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include FR, IT, DE, PL, GR and more to 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ies of Culture + their representatives – including M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 of the Europeana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298764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9279-B0E3-4A48-9DB9-F7937224BB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588000" y="5373720"/>
            <a:ext cx="2556000" cy="14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1773360"/>
            <a:ext cx="3457440" cy="1152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Digita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3789360"/>
            <a:ext cx="201744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5661000"/>
            <a:ext cx="158436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3429000"/>
            <a:ext cx="3097080" cy="1152360"/>
          </a:xfrm>
          <a:prstGeom prst="ellipse">
            <a:avLst/>
          </a:prstGeom>
          <a:solidFill>
            <a:srgbClr val="ff99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429000"/>
            <a:ext cx="2160360" cy="1152360"/>
          </a:xfrm>
          <a:prstGeom prst="ellipse">
            <a:avLst/>
          </a:prstGeom>
          <a:solidFill>
            <a:srgbClr val="ff9900">
              <a:alpha val="67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 Servi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5589720"/>
            <a:ext cx="720720" cy="64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5589720"/>
            <a:ext cx="720720" cy="64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5589720"/>
            <a:ext cx="720720" cy="64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627280" y="4581360"/>
            <a:ext cx="865080" cy="935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419640" y="4724280"/>
            <a:ext cx="431640" cy="719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284720" y="4797000"/>
            <a:ext cx="142920" cy="576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76720" y="4868640"/>
            <a:ext cx="71640" cy="647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363640" y="4797360"/>
            <a:ext cx="576360" cy="719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56360" y="4724280"/>
            <a:ext cx="216000" cy="719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516720" y="4797000"/>
            <a:ext cx="503280" cy="6462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6804000" y="4724280"/>
            <a:ext cx="1008000" cy="648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572000" y="2997000"/>
            <a:ext cx="216000" cy="431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372360" y="2997000"/>
            <a:ext cx="287280" cy="431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uropean Digital Library and MICHA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124000" y="5589720"/>
          <a:ext cx="665280" cy="66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5589720"/>
                    <a:ext cx="6652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906720" y="5589720"/>
          <a:ext cx="665280" cy="66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06720" y="5589720"/>
                    <a:ext cx="6652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651640" y="5589720"/>
          <a:ext cx="736560" cy="73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5589720"/>
                    <a:ext cx="7365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7524720" y="5589720"/>
          <a:ext cx="719280" cy="71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24720" y="5589720"/>
                    <a:ext cx="71928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1F0A6-9DA7-4DED-ADCB-353B0F1F06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Arial"/>
              </a:rPr>
              <a:t>Why are Service Registries needed?</a:t>
            </a:r>
            <a:endParaRPr b="0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where content is and how it is man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Environment Service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 technical details of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schemas, interoperability protocols, terminologie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s construction of machine-to-machin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15687-0419-4C94-98D2-DA4ACF6F83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Europeana:</a:t>
            </a:r>
            <a:br>
              <a:rPr sz="48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urope’s digital museum, library and archiv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6:38:18Z</dcterms:created>
  <dc:creator>KateF</dc:creator>
  <dc:description/>
  <dc:language>en-US</dc:language>
  <cp:lastModifiedBy>jward</cp:lastModifiedBy>
  <dcterms:modified xsi:type="dcterms:W3CDTF">2008-05-22T08:29:45Z</dcterms:modified>
  <cp:revision>547</cp:revision>
  <dc:subject/>
  <dc:title>Slide 1</dc:title>
</cp:coreProperties>
</file>