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5A2-BA6D-4319-9F6C-F35B4891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8C3-4FEB-4154-B4CF-AD2C31A2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2FC-F77C-437F-9846-98AFCE12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340-3FC7-47EA-97BA-53701B99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7BF-2F0B-4F4B-BD04-77781C2A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550-514D-4A27-BD85-1D4EEE15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DC5-2519-4246-B57C-48ABC3C3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B4C-F5AA-42CF-A1D8-19C923DA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4DD-4B81-48BD-A014-3C29C9C6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D1A8-BED9-4D25-B16C-5F77873C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4F7-6C38-4408-86AF-86FD8637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B6B-8CEA-4BBD-AA5C-F0D128ED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B402-887C-4AD1-A571-797F938A6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ultural Heritage Digitisation 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Joan 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n Chomhairle Leabharlan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Library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tudent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271520"/>
            <a:ext cx="62658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7404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388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llenges &amp; Opportunit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lanning &amp; Co-ordination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-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lexible pla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lexib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ser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Opportunities &amp;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ff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dicated digitisation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tent &amp;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n house  / Out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tent 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pyright &amp; I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hallenges &amp; 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xpertise contin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raining &amp; refresher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ntent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ebsite currency –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ntent storage media, website development &amp; management, software applications versions / backward 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Future Proof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ultural Heritage Digitisation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igitisation Programmes -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igitisation Opportunitie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ultural Heritage Digitisation 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ranching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ranching Out steering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ultural Heritage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2002 –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igitisation Program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ilot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ilot projects &amp; national digitisation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ational Digitisation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ational gateway and individual local studies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sourc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ww.askaboutireland.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47640" y="1160640"/>
            <a:ext cx="59738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87280" y="527040"/>
            <a:ext cx="712980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11280" y="333360"/>
          <a:ext cx="8066160" cy="62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33360"/>
                    <a:ext cx="806616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igitisation Program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ducational conten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ational data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rish Times Archive, Historic Maps, Griffith’s Valu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igital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ew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1:48:16Z</dcterms:created>
  <dc:creator>jward</dc:creator>
  <dc:description/>
  <dc:language>en-US</dc:language>
  <cp:lastModifiedBy>Akelly</cp:lastModifiedBy>
  <dcterms:modified xsi:type="dcterms:W3CDTF">2008-05-20T09:55:10Z</dcterms:modified>
  <cp:revision>3</cp:revision>
  <dc:subject/>
  <dc:title>Cultural Heritage Digitisation Programme</dc:title>
</cp:coreProperties>
</file>