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807-78ED-4AD8-85F4-7A4197AA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938-CBC8-4DAE-9232-32472613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54E-30E5-4853-B436-4CBA409D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014-B933-4276-ACD5-459873B5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746-EC3A-426D-B67F-C4D228DE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377-A906-49F8-AFB5-40CA51C9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F88-8E26-4C1C-923E-349A3D9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A39-39E8-4B4C-B573-AA0DF50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1BB-8532-49E6-A1CB-1B8F1DC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DEC-CC0F-4102-8424-FBD1161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9D0-501F-45FA-9880-B8B890F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90C-9A21-46EE-A46B-AABCB02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4BEF-74CF-4EA4-876E-2907BFA3B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ultural Heritage Digitisation 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oan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Chomhairle Leabharlan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Librar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tudent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271520"/>
            <a:ext cx="62658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740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388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llenges &amp; Opportun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nning &amp; Co-ordination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-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le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e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pportunities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ff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dicated digitisatio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ent &amp;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 house  / Out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ent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pyright &amp; I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allenges &amp;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pertise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aining &amp; refresh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tent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bsite currency –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tent storage media, website development &amp; management, software applications versions / backward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uture Proo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ultural Heritage Digitisation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gitisation Programmes -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gitisation Opportunitie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ultural Heritage Digitisation 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anch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anching Out steering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ltural Heritage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002 –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gitisation Pro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ilo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ilot projects &amp; national digitisatio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Digitis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ational gateway and individual local studies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ourc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ww.askaboutireland.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1160640"/>
            <a:ext cx="59738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527040"/>
            <a:ext cx="71298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1280" y="333360"/>
          <a:ext cx="806616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806616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gitisation Pro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ducational cont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ish Times Archive, Historic Maps, Griffith’s Valu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git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ew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1:48:16Z</dcterms:created>
  <dc:creator>jward</dc:creator>
  <dc:description/>
  <dc:language>en-US</dc:language>
  <cp:lastModifiedBy>Akelly</cp:lastModifiedBy>
  <dcterms:modified xsi:type="dcterms:W3CDTF">2008-05-20T09:55:10Z</dcterms:modified>
  <cp:revision>3</cp:revision>
  <dc:subject/>
  <dc:title>Cultural Heritage Digitisation Programme</dc:title>
</cp:coreProperties>
</file>